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79F3-6C3A-449E-8E61-83215CCD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411A-4F07-42B3-AF12-0DDB35D2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898C-C34E-44D0-8B05-0F44A58C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AA73-FC4F-4888-967F-39E9836B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7C9B-C616-4543-88C0-87C9DD58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C8B9-633D-4436-945D-D7102129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936F-230A-461F-A722-2656B47D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88DE-0BD5-4AED-8851-4E5F12C8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3EE7-03F8-4D10-B609-B71DD4FB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9649-1058-43D3-8F21-1F7F3ABA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605C-DDCC-438C-9150-B0E84FEB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3015-AA68-4BFD-836B-25CB9E46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1666-68EE-4473-9424-256C2FF21C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пирантура – специальность – дата защиты кандидатской диссер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ок обучения в докторантуре (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учный консуль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ые научные результаты за последние 3 го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бласти критических технологий и приоритетных направлений фундаментальных исслед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крытия, патент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нографии, учебники, стат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ичие охранных документов на объекты промышленной собственности и объекты авторского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али, премии, дипломы конференций, конкурсов, выставок (в т.ч. в качестве научного руководит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подготовка аспирантов, кандидатов наук за последние 5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совершенствования учебного процесса (учебные пособия, методические указания, методики препода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3:14:48Z</dcterms:created>
  <dc:creator>Мухамедзянова</dc:creator>
  <dc:description/>
  <dc:language>en-US</dc:language>
  <cp:lastModifiedBy>Наука</cp:lastModifiedBy>
  <dcterms:modified xsi:type="dcterms:W3CDTF">2009-03-27T07:06:17Z</dcterms:modified>
  <cp:revision>12</cp:revision>
  <dc:subject/>
  <dc:title>О себе (возраст, школа, ВУЗ, аспирантура  - специальность, докторантура - специальность)</dc:title>
</cp:coreProperties>
</file>