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AA9D-E41F-4A6F-A743-EF9328D8C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C574-C352-40A4-99ED-57DB98549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532D-45C3-437E-A870-DFFB9A7EB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2EC3-F5F6-4E5F-B511-F5F68F282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39F9-7733-4B46-A80B-9627C5ED0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C4E4-CEEC-468B-A5D2-8153169DC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8CC6-612F-479E-AA69-4A9DD5225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11D9-6D2E-4DE8-B2E3-E5CADB6E1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8DA1-FDFC-4345-9A94-A8348AF44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18C4-BB30-47F7-A332-7C1CA041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E343-3213-483F-AF7D-052E0418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25BF-898D-4B03-977B-BFC4F967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DEF36-EC16-4EF6-A57E-17D31E865E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Краткая информация о кандидате на государственную премию Красноярского кр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ата ро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разование (вуз - специальност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спирантура – специальность – дата защиты кандидатской диссер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рок обучения в докторантуре (год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ласть научных интере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щее количество публик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учный консульт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Научная иде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полагаемая научная новиз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Дост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новные научные результаты за последние 3 го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области критических технологий и приоритетных направлений фундаментальных исследов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крытия, патенты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нографии, учебники, стать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личие охранных документов на объекты промышленной собственности и объекты авторского пр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Дост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дали, премии, дипломы конференций, конкурсов, выставок (в т.ч. в качестве научного руководител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ационные и коммуникативные умения (организация семинаров, конференций, симпозиумов, подготовка аспирантов, кандидатов наук за последние 5 ле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ие в проектах, грантах, соруководство НИР и ОКР по договора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зультаты совершенствования учебного процесса (учебные пособия, методические указания, методики преподава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Планы на будуще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анируемые научные результ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деи и формы реализации научных разработок в интересах социально-экономического развития к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полагаемый карьерный р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мер: за предложенный (способ, метод, идею) … расширения (реализации) энергетического диапазона…, отличающийся…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улировка в  одном предложении за какую собственную идею вы достойны государственной премии Красноярского к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3T03:14:48Z</dcterms:created>
  <dc:creator>Мухамедзянова</dc:creator>
  <dc:description/>
  <dc:language>en-US</dc:language>
  <cp:lastModifiedBy>Наука</cp:lastModifiedBy>
  <dcterms:modified xsi:type="dcterms:W3CDTF">2009-03-27T07:06:17Z</dcterms:modified>
  <cp:revision>12</cp:revision>
  <dc:subject/>
  <dc:title>О себе (возраст, школа, ВУЗ, аспирантура  - специальность, докторантура - специальность)</dc:title>
</cp:coreProperties>
</file>