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37CC-0A38-4031-B047-C2BEFB731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AF93-AE6E-4F8F-AE65-00C988C0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56BD-BDDA-469B-BF53-4109CF675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C635-A768-48D0-A8C1-CEA3CB2B1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F6C5-F789-49FF-B18D-2585178D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3E7A-FA2B-4B0B-96BB-064EA1A5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E0CB-F3CE-4500-AA2C-8EDB857A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E1C1-D146-4BED-BF04-BC62D8B1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F4CA-D9B1-4E56-91FD-6C853C56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BE72-BC2C-47F0-A361-1C07B19B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9351-DFFC-409D-AC12-E962B5BF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CA5A-2B4E-4688-89BB-9000D7D2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D46E-07CF-404C-859E-CD54529BC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Краткая информация о кандидате на государственную премию Красноярского к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ание (вуз - специаль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ок обучения в аспирантуре (го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ласть научных интере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щее количество публик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ный руковод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Научная ид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ая научная новиз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иболее значимые публикации в изданиях центральной печати, перечня ВАК ( в т.ч. за рубежо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едрение и использование результатов научных разработок на территории края (акты о внедрении, патенты, лицензирование, коммерциализац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проектах, грантах, соруководство НИР и ОКР по договор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дали и дипломы конференций, конк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изационные и коммуникативные умения (организация семинаров, конференций, симпозиумов, руководство НИР студентов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астие в инновационных конкурсах и проек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ланы на будущ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ые научн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и и формы реализации научных разработок в интересах социально-экономического развития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ый карьерный р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р: за предложенный (способ, метод, идею) … расширения (реализации) энергетического диапазона…, отличающийся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7810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улировка в  одном предложении за какую собственную идею вы достойны государственной премии Красноярского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3T02:54:14Z</dcterms:created>
  <dc:creator>Мухамедзянова</dc:creator>
  <dc:description/>
  <dc:language>en-US</dc:language>
  <cp:lastModifiedBy>Наука</cp:lastModifiedBy>
  <dcterms:modified xsi:type="dcterms:W3CDTF">2009-03-27T07:01:57Z</dcterms:modified>
  <cp:revision>12</cp:revision>
  <dc:subject/>
  <dc:title>О себе (возраст, школа, ВУЗ, специальность)</dc:title>
</cp:coreProperties>
</file>