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81BB-0383-45B2-855E-F234664A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C18-D69F-45FD-9EE8-03F2E467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F4C7-4FDA-4BD8-8557-680EE133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B262-5CAE-43E8-9ACC-CEB462D7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F1A9-7428-4065-AF4E-59D0B0DA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C216-10AF-4226-88B4-C6DBBFB1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7742-A704-47BE-A3A2-06CB9CD7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AD0-26F8-417A-9D60-518D319B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37C4-A6C8-4DBC-BB88-A3C4DA1B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84C-8B24-4709-9B4E-B770E881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602D-87D3-463D-BCB6-1224E82D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7D6-51D9-4B5B-AF39-73571FF4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C5B7-FE0C-4023-BC86-12DA14BF17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нтура – специальность – дата защиты кандидатской диссер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обучения в докторантуре (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научные результаты за последние 3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ласти критических технологий и приоритетных направлений фундаментальных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ия, патен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графии, учебники, 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хранных документов на объекты промышленной собственности и 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али, премии, дипломы конференций, конкурсов, выставок (в т.ч. в качестве научного руковод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подготовка аспирантов, кандидатов наук за последние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совершенствования учебного процесса (учебные пособия, методические указания, методики препода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14:48Z</dcterms:created>
  <dc:creator>Мухамедзянова</dc:creator>
  <dc:description/>
  <dc:language>en-US</dc:language>
  <cp:lastModifiedBy>Наука</cp:lastModifiedBy>
  <dcterms:modified xsi:type="dcterms:W3CDTF">2009-03-27T07:06:17Z</dcterms:modified>
  <cp:revision>12</cp:revision>
  <dc:subject/>
  <dc:title>О себе (возраст, школа, ВУЗ, аспирантура  - специальность, докторантура - специальность)</dc:title>
</cp:coreProperties>
</file>